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CB8B-A8FC-4B25-BBC2-FF87A275B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E911-06C6-4DA9-BF15-75E27A7D3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B1AA-D8C5-4C54-AD50-6CA3E4F11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3713-E116-4F8E-BBD5-0CF24E5F4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ns grade, crosses expectations, broad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4F1A-E0EA-4C51-A613-256F1D642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B419-769C-403D-A6B4-5F782716B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8056-88B3-4FDC-82F9-5AA8055D2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5BFF-9271-456E-959F-ED4FB6698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06DA-89AF-4A5B-B631-DA96DF606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2BCD-FB8E-4F10-9AA9-BC71039EE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 discussion; mention that our first question is warm and fuzzy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4EC4-348D-452D-9625-9739D6543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open routed vs open-e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75FF-9016-4148-8433-5B077B6EF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 more than 25 minutes on slides 19-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CC36-686D-4538-8051-00658F23F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209E-2BAB-4CCD-9CE0-F595F26C0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E9BE-1D94-495A-B89F-139429677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FA95-4470-4F4F-80CD-9E1E0755E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F702-56E9-401C-949E-EC338611F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65EC-5F3D-4595-8FCF-089FD3612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1B53-10B9-4C67-B8DA-605945F51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2FD8-769D-4C52-BCF3-72885547A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71C0-802B-4758-BD84-673E8D5AD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5B18-4BCD-4F34-B146-DE7B27700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5415-4E30-4D5B-9EFD-C90E2C5DE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examples are: -10. -9, -8,..  Or -10, -9.9, -9.8, … or -10, -9.99, -9.98,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B959-8349-400E-8399-27981ECF3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4C44-1D1A-4F8C-B014-DDE4FF680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1F08-A01F-40C4-87B6-4CE7E6FF5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start with topic– put through sieve of big ideas, get a goal  and check against expectations; might start with expectations inst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E59A-F229-4414-9566-3F56DB60B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start with topic– put through sieve of big ideas, get a goal  and check against expectations; might start with expectations inst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C774-9EB7-45E7-9403-F1D9FA1AD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start with topic– put through sieve of big ideas, get a goal  and check against expectations; might start with expectations inst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8994-DCD3-484F-AA61-A9F5FC07A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start with topic– put through sieve of big ideas, get a goal  and check against expectations; might start with expectations inst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BEAD-218C-4E9A-8148-50AF2F3AA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94EB-6749-44B0-81D7-B607071EB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4D5C-709B-4789-BA1A-AEFAFC231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F89E-5F1E-4C55-9E71-F0E2AACEC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8EF2-9DB1-4022-BA13-D66605811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D611-9C29-425B-B31D-E5A945B97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FF5C-05FB-4274-9E29-BF5D51FE1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78E6-4F23-4611-81F9-A543FA9CE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2477-9FB1-495A-BFE4-8F3207A23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B79F-12C2-4078-9BC8-C0DE19F76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1565-624E-4255-AD3B-DFC8AFF1C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E3FB-D3F3-4430-9B87-E420EDBAC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4678-0A50-4770-B0B1-3625DF90E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1B4C-DD71-4AFE-9324-F62ED8C7B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E492-04FE-40CA-B0C2-39059DA54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6C0F-7576-4C11-890D-A54DB39C2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at 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D360-A31F-464C-9BE8-3205219BA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6C83-C77B-4DF8-ADD1-21FD9EEFF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1217-AEFE-4C3A-95B5-266F9A841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5CEB-5E4A-48AA-934A-F32BCC1D4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4EC8-E3E2-40E5-B0BA-8E9ED2133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60C9-37A1-489E-91B8-9CAB61DB2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716C-6558-41EF-BB3A-CEBDA84C3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E961-F877-4299-9629-67C24C035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 CKT-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2680-B6D1-42E5-A042-A386EF104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n example, e.g. your goal might be that students can use order of operations, but why is that your go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E603-7E64-4F21-A4B6-63AC7274D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34E0-B529-4EE4-B846-FCB60D241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that patterns can start at the same place but grow at different rates; maybe the number idea that the next number is in the -7s or hig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0708-48D5-444A-B7FD-AA68B2C4D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BF2E-22DD-4D48-B955-B559D2623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1DFF-2C69-4BED-A2FF-4C55E6A5F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9227-A62C-4862-9831-78F2D25ED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4958-3458-4376-81D3-DEC3B6C15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CD0E-015A-4799-AC54-7A286EB12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torical only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A128-437E-40A2-B620-48ECFA4FC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 prior t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drop if time is an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F416-AC9D-421B-BEAB-1DF771924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9651-C8C2-4496-9A3F-5B38F8001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FFF1-FE0D-44FD-87BF-52E27944C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BC3A-9697-42D7-9676-BDB543C98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12D8-DC57-4274-A587-32ABF98C7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D260-55BA-476B-984E-2156A90F8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ALSO HAVE QUESTION RE COULD USE 1 POINT, 2 POINTS OR 3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B2A7-1B49-459E-A69E-680FB5D4A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CF3C-B7F0-4EC0-9F34-8F035FF59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6E64-4137-48C7-A433-904756E28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814D-54E0-4B47-9B51-E02DFF366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FAFF-A2CA-4FF0-8537-A195FD56C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A1D2-BCCF-4D3A-AE78-CC89D6D86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E3B9-EF53-4AC6-914E-2D8E7E647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5A28-1272-470C-9D9F-6614454B9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back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FE68-F818-4A2F-A4B6-07F1E9355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back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05CC-153A-4A03-8F7F-2D19C0675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C4B-BE68-41E7-9849-761A8909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8C67-378F-4ECB-82B0-04EAD90C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EA2-A82D-4523-BEE1-B518DA21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E40-C81B-4BC6-A6EF-9FF4B874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9C60-FF4E-4D7A-B5D0-DE51D420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BCE4-A3EF-4283-AC6C-17758FF3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BD8-6843-44AE-93EC-F199D50F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11C-45FE-4883-8671-F75062B3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200-BBDD-4EB0-97E4-A5259E8D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FA88-47D6-4DA2-984D-28536D7B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C5E9-1E99-45D0-8809-55917AAE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4F19-2682-465B-93FC-CFC0EC0A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3F6F-E47B-494C-A648-ED810B0241D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304920" y="5638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Day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GAINS_Globe_70smws"/>
          <p:cNvPicPr/>
          <p:nvPr/>
        </p:nvPicPr>
        <p:blipFill>
          <a:blip r:embed="rId1"/>
          <a:stretch/>
        </p:blipFill>
        <p:spPr>
          <a:xfrm>
            <a:off x="685800" y="838080"/>
            <a:ext cx="2637000" cy="4953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4572000" y="2897280"/>
            <a:ext cx="44449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Professional Learning for Mathematics Leaders and Coaches—</a:t>
            </a:r>
            <a:r>
              <a:rPr b="0" i="1" lang="en-US" sz="36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Not just a 3-part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12193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rian Small: ….one that connects numerous mathematical understandings into a coherent who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31B1-7C1E-4B41-A165-DBE1C082E0F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9320" y="1905120"/>
            <a:ext cx="7416720" cy="68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 a topic name nor an overall expectat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 a statement that describes a fundamental mathematical connec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0A85-F8DA-4ED7-A7C0-3CEA9C68F66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1219320" y="190512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provides a lens in which to embed new learn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40D5-EA74-49FA-B170-268AEB95DE6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pattern &amp;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143000" y="274320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et of big ideas for patterns and algebra are listed in the program booklet you’ve receiv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75CF-F1FF-4D69-B1E7-B614EFC20A6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pattern &amp;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274320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ve a look at those ide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ice that our minds-on activity relates to both   BI 1 and BI 5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FBCB-B92B-484F-9988-A29D0834D37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143000" y="266688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sets of questions will be circulated that are designed to bring out the big ide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E3F0-5AAC-4B27-B6B2-866C0653FD7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143000" y="266688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one of those sets of questions. Match each question to the big idea it is most likely to elic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AD41-CDB6-4D98-8DFB-E2AD0B21906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143000" y="2666880"/>
            <a:ext cx="741672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big idea did you find easiest to match first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did you find hardest to match fir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4F55-56CC-4527-B9AD-C7A707DFD7C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143000" y="2149560"/>
            <a:ext cx="741672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of the questions did you like best?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notice about the question sty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E483-6CD4-4A55-A2D9-29B13F15BCD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43000" y="266688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hy do you think it’s important that students know that pattern rules need to be defined? (Big Idea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FEAC-3059-4A13-844A-FB26C120F59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What’s important about the Math we Teach?</a:t>
            </a:r>
            <a:br>
              <a:rPr sz="4400"/>
            </a:b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A Focus on 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143000" y="2666880"/>
            <a:ext cx="7416720" cy="68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an you think of other instances where number, geometry, measurement or data topics are taught using pattern concepts? (BI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CC17-8FCC-4906-9F38-EA4DF8C166E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143000" y="266688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3 show the notion of generalization? Analyzing relationships or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90F3-5944-4BB2-A559-6A509557BF8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266688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s that matched Big Idea 4 broaden a student’s understanding of the value of multiple represent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93ED-EB73-4179-A792-E4A0F305C45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143000" y="2666880"/>
            <a:ext cx="7416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s that matched Big Idea 5 help broaden students’ ideas of what kinds of relationships there 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EB33-B147-491B-928B-B337ED347A8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143000" y="266688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do you think Big Idea 6 is a valuable one for student foc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D1F3-AE08-4C29-B7BD-5D0937A4CC8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 just experience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66680" y="1828800"/>
            <a:ext cx="741708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arallel ta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will talk more about these, but these two very related tasks were adjusted to meet your needs but treated together in our consolid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460D-4693-4786-B9C2-A9BBE55082D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us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66680" y="1828800"/>
            <a:ext cx="7417080" cy="71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By thinking about the big ideas, it becomes easier to develop appropriate lesson goals and appropriate consolidating questions to bring them ou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B080-FFE4-4126-8AF2-76718E0FE60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182880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are thinking about the Big Idea: Comparing patterns reveals classes of pattern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3C2A-7801-43D5-8575-47B29888C24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066680" y="1828800"/>
            <a:ext cx="7417080" cy="79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You are likely to ask: 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hich two of these patterns do you think are most alike and wh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5, 8, 11, 14, 17, 20,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5, 10, 20, 40, 80,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5, 10, 15, 20, 25,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5, 20, 35, 50, …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F30E-AAC8-471E-99D4-087A698C06D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6680" y="1828800"/>
            <a:ext cx="74170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rather than simply asking for a definition of a linear growing patter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7187-9DE1-4D1B-BD4B-881FF29487D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042920" y="2014560"/>
            <a:ext cx="741672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ar growing pattern starts at -10 and grows very slow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ight the pattern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F028-4739-477F-B438-14BA759FA99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haring big ideas with stude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143000" y="251460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s it easier for them to make connections to prior knowledge and to move forward in new direc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813D-D9A4-43D2-A847-12523A71BA9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uilding lesso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213372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can use a big idea to hone in on an appropriate lesson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7926-67B3-47F3-A3AF-0FC140D13BF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0" descr="Picture 1.png"/>
          <p:cNvPicPr/>
          <p:nvPr/>
        </p:nvPicPr>
        <p:blipFill>
          <a:blip r:embed="rId1"/>
          <a:stretch/>
        </p:blipFill>
        <p:spPr>
          <a:xfrm>
            <a:off x="5181480" y="3657600"/>
            <a:ext cx="1873440" cy="1521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1155600" y="990720"/>
            <a:ext cx="730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lationship among Expectations, Big Ideas,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C6DC-EEC2-457F-8762-DD6FB12282A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2514600" y="342900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90720" y="44956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5562720" y="579132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own Arrow 11"/>
          <p:cNvSpPr/>
          <p:nvPr/>
        </p:nvSpPr>
        <p:spPr>
          <a:xfrm>
            <a:off x="6095880" y="510552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5562720" y="3886200"/>
            <a:ext cx="129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wn Arrow 15"/>
          <p:cNvSpPr/>
          <p:nvPr/>
        </p:nvSpPr>
        <p:spPr>
          <a:xfrm rot="16200000">
            <a:off x="4381560" y="3428640"/>
            <a:ext cx="381240" cy="16002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155600" y="990720"/>
            <a:ext cx="730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lationship among Expectations, Big Ideas,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C783-F053-48F1-9012-B8A0867725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838080" y="342900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ometimes you can reframe the big ideas for your topic. For example, a trig big idea might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155600" y="990720"/>
            <a:ext cx="730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lationship among Expectations, Big Ideas,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A663-2936-48EA-9B7F-C728837AD3E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838080" y="342900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imited information about a periodic relationship can sometimes, but not always, reveal other information about that relationship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r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8A7B-7714-432B-9902-C00F7FC1E3F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990720" y="2209680"/>
            <a:ext cx="76197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hen a relationship appears to be periodic in nature, then it is appropriate to consider a trigonometric function to model the relationship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155600" y="990720"/>
            <a:ext cx="730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lationship among Expectations, Big Ideas,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990720" y="30481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ill use the Posing Powerful Questions Template (PPQT) as a too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9BEE-F9D3-415C-B4A2-0FDC5DE9C8D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066680" y="18288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F888-5A07-45A3-8485-55458EC2054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Picture 3.png"/>
          <p:cNvPicPr/>
          <p:nvPr/>
        </p:nvPicPr>
        <p:blipFill>
          <a:blip r:embed="rId1"/>
          <a:stretch/>
        </p:blipFill>
        <p:spPr>
          <a:xfrm>
            <a:off x="0" y="1979640"/>
            <a:ext cx="8991720" cy="28512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76320" y="2286000"/>
            <a:ext cx="87627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4343400"/>
            <a:ext cx="8763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hat big id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066680" y="2766960"/>
            <a:ext cx="741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st likely BI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E478-DD7F-4E08-8F99-0F86A3DA58A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ist the bi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66680" y="18288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542D-3F8E-4E25-A1C1-40E92195E04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76320" y="2286000"/>
            <a:ext cx="87627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Picture 1.png"/>
          <p:cNvPicPr/>
          <p:nvPr/>
        </p:nvPicPr>
        <p:blipFill>
          <a:blip r:embed="rId1"/>
          <a:stretch/>
        </p:blipFill>
        <p:spPr>
          <a:xfrm>
            <a:off x="0" y="2090880"/>
            <a:ext cx="9144000" cy="26762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>
            <a:off x="114480" y="4038480"/>
            <a:ext cx="8915400" cy="609840"/>
          </a:xfrm>
          <a:prstGeom prst="rect">
            <a:avLst/>
          </a:prstGeom>
          <a:noFill/>
          <a:ln w="38160">
            <a:solidFill>
              <a:srgbClr val="262626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042920" y="201456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you convince someone the pattern grows slow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31F8-D998-4A86-BCA9-A199B363D60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reate an appropriate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066680" y="18288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96CE-F635-45BD-8647-BE8D721E24A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Picture 2.png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4908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76320" y="2286000"/>
            <a:ext cx="7924680" cy="609480"/>
          </a:xfrm>
          <a:prstGeom prst="rect">
            <a:avLst/>
          </a:prstGeom>
          <a:noFill/>
          <a:ln w="38160">
            <a:solidFill>
              <a:srgbClr val="262626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155600" y="990720"/>
            <a:ext cx="730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259092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need to ask a question or two that gets RIGHT to your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5EE0-0990-48EB-A1FC-0E7062BD0A5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7" descr="Picture 1.png"/>
          <p:cNvPicPr/>
          <p:nvPr/>
        </p:nvPicPr>
        <p:blipFill>
          <a:blip r:embed="rId1"/>
          <a:stretch/>
        </p:blipFill>
        <p:spPr>
          <a:xfrm>
            <a:off x="0" y="4800600"/>
            <a:ext cx="9144000" cy="1816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"/>
          <p:cNvSpPr/>
          <p:nvPr/>
        </p:nvSpPr>
        <p:spPr>
          <a:xfrm>
            <a:off x="1219320" y="914400"/>
            <a:ext cx="730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 a consolidation question might b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4F82-6C06-4B7E-84C4-EA4D946AF3C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Picture 2 08-36-18.png"/>
          <p:cNvPicPr/>
          <p:nvPr/>
        </p:nvPicPr>
        <p:blipFill>
          <a:blip r:embed="rId2"/>
          <a:stretch/>
        </p:blipFill>
        <p:spPr>
          <a:xfrm>
            <a:off x="0" y="2438280"/>
            <a:ext cx="9144000" cy="24908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0" y="4876920"/>
            <a:ext cx="8610480" cy="1371600"/>
          </a:xfrm>
          <a:prstGeom prst="rect">
            <a:avLst/>
          </a:prstGeom>
          <a:noFill/>
          <a:ln w="38160">
            <a:solidFill>
              <a:srgbClr val="262626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066680" y="1828800"/>
            <a:ext cx="7417080" cy="74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 the expectation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e first degree equations with non-fractional coefficients using a variety of tools (e.g. 2x + 7 = 6x – 1).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DB4C-698B-4EF8-BA61-DD22860523F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066680" y="182880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big idea do you think it most closely relates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978B-8E4A-4C9D-8F3C-7CDABB9AF46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066680" y="182880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might have picked 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I 4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inking that solving an equation means representing it in a different, easier to recognize. for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C787-4435-4BE4-92A0-99D425BBD2B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066680" y="182880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might have picked   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BI 6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inking that you had some information that could give you other inform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B7B6-146C-48A5-B140-223B8FCAD2A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066680" y="1828800"/>
            <a:ext cx="741708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might have picked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BI 3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inking that an equation is a way to describe a change and solving it is just about “undoing” the chan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6B6F-F130-4CD4-8E85-2FAA4D81EF9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could be the less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066680" y="274320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lesson goal should be informed by which of those ideas you want to focus 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55BB-E71F-405C-B73A-52F4CAF83E6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p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30EF-441C-453C-BCFC-425A1B3BD36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Picture 1.png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25635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0" y="2590920"/>
            <a:ext cx="9144000" cy="838080"/>
          </a:xfrm>
          <a:prstGeom prst="rect">
            <a:avLst/>
          </a:prstGeom>
          <a:noFill/>
          <a:ln w="38160">
            <a:solidFill>
              <a:srgbClr val="262626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4114800"/>
            <a:ext cx="9144000" cy="99072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066680" y="2895480"/>
            <a:ext cx="7417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es this minds-on engage stud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is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AF17-1A18-45EB-9DBE-41AA6F16511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o clarify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066680" y="182880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082F-5A3C-40C3-AEAA-11C764BAFA7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838080" y="4114800"/>
            <a:ext cx="7417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F85B-CF78-42FE-8871-5D6FA58F7E1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3880" y="18097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 it’s sure easier to see the unknown value in one of th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p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96D7-CD62-4D47-8195-0E49D108269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Picture 2.png"/>
          <p:cNvPicPr/>
          <p:nvPr/>
        </p:nvPicPr>
        <p:blipFill>
          <a:blip r:embed="rId1"/>
          <a:stretch/>
        </p:blipFill>
        <p:spPr>
          <a:xfrm>
            <a:off x="0" y="4572000"/>
            <a:ext cx="9144000" cy="1758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Picture 1.png"/>
          <p:cNvPicPr/>
          <p:nvPr/>
        </p:nvPicPr>
        <p:blipFill>
          <a:blip r:embed="rId2"/>
          <a:stretch/>
        </p:blipFill>
        <p:spPr>
          <a:xfrm>
            <a:off x="0" y="2147760"/>
            <a:ext cx="9144000" cy="25624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0" y="4648320"/>
            <a:ext cx="9144000" cy="1523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p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7D2F-7212-4442-9FE8-5437FFD070F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Picture 1.png"/>
          <p:cNvPicPr/>
          <p:nvPr/>
        </p:nvPicPr>
        <p:blipFill>
          <a:blip r:embed="rId1"/>
          <a:stretch/>
        </p:blipFill>
        <p:spPr>
          <a:xfrm>
            <a:off x="0" y="2138400"/>
            <a:ext cx="9144000" cy="25812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0" y="2133720"/>
            <a:ext cx="8915400" cy="838080"/>
          </a:xfrm>
          <a:prstGeom prst="rect">
            <a:avLst/>
          </a:prstGeom>
          <a:noFill/>
          <a:ln w="38160">
            <a:solidFill>
              <a:srgbClr val="262626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3657600"/>
            <a:ext cx="8991720" cy="1066680"/>
          </a:xfrm>
          <a:prstGeom prst="rect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7" descr="Picture 3.png"/>
          <p:cNvPicPr/>
          <p:nvPr/>
        </p:nvPicPr>
        <p:blipFill>
          <a:blip r:embed="rId1"/>
          <a:stretch/>
        </p:blipFill>
        <p:spPr>
          <a:xfrm>
            <a:off x="228600" y="4876920"/>
            <a:ext cx="6756480" cy="16542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p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3C53-E64C-46EA-832E-11D251EFF4D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4876920"/>
            <a:ext cx="8991720" cy="1676160"/>
          </a:xfrm>
          <a:prstGeom prst="rect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Picture 1.png"/>
          <p:cNvPicPr/>
          <p:nvPr/>
        </p:nvPicPr>
        <p:blipFill>
          <a:blip r:embed="rId2"/>
          <a:stretch/>
        </p:blipFill>
        <p:spPr>
          <a:xfrm>
            <a:off x="0" y="2138400"/>
            <a:ext cx="9144000" cy="2581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p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A4EF-CF22-4185-9DC5-3E5EEE73202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Picture 2.png"/>
          <p:cNvPicPr/>
          <p:nvPr/>
        </p:nvPicPr>
        <p:blipFill>
          <a:blip r:embed="rId1"/>
          <a:stretch/>
        </p:blipFill>
        <p:spPr>
          <a:xfrm>
            <a:off x="0" y="2163600"/>
            <a:ext cx="9144000" cy="25308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5"/>
          <p:cNvSpPr/>
          <p:nvPr/>
        </p:nvSpPr>
        <p:spPr>
          <a:xfrm>
            <a:off x="0" y="2133720"/>
            <a:ext cx="8991720" cy="838080"/>
          </a:xfrm>
          <a:prstGeom prst="rect">
            <a:avLst/>
          </a:prstGeom>
          <a:noFill/>
          <a:ln w="38160">
            <a:solidFill>
              <a:srgbClr val="262626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8160" y="3733920"/>
            <a:ext cx="9067680" cy="83808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p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2DAE-0B46-4B65-A053-A79D1DAC56E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7" descr="Picture 2.png"/>
          <p:cNvPicPr/>
          <p:nvPr/>
        </p:nvPicPr>
        <p:blipFill>
          <a:blip r:embed="rId1"/>
          <a:stretch/>
        </p:blipFill>
        <p:spPr>
          <a:xfrm>
            <a:off x="0" y="4800600"/>
            <a:ext cx="9144000" cy="16812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38160" y="4800600"/>
            <a:ext cx="9067680" cy="129528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Picture 2.png"/>
          <p:cNvPicPr/>
          <p:nvPr/>
        </p:nvPicPr>
        <p:blipFill>
          <a:blip r:embed="rId2"/>
          <a:stretch/>
        </p:blipFill>
        <p:spPr>
          <a:xfrm>
            <a:off x="0" y="2163600"/>
            <a:ext cx="9144000" cy="253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so importan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219320" y="2149560"/>
            <a:ext cx="7416720" cy="71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tting a goal clear in your own mind can make a big difference in increasing the likelihood that students will learn what you hope they will lear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BEFC-F01C-43EC-9E84-59F8E65314B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1193760" y="260676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includes knowing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you have that goal. --- What’s the point of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3C69-102C-4BF1-8304-094FAC0F700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you want to do thi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decide on the goal, you are more likely to know what questions to ask, what activity to use,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D8D6-4275-4B2C-BE46-EE6B37F9B95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the important ma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think the important underlying math idea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EF5B-3751-4B09-9632-DD448DF50C9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ke it y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066680" y="289548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 if you get a lesson from a valued resource, you have to make your OWN decision about what to pull out of that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2570-B50B-4082-B86D-75B09EF2BD2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look at this lesson from Grade 7 TI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1419-02E7-4A9E-B9E8-D5973F53789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066680" y="2895480"/>
            <a:ext cx="741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d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3CF9-1161-4EFA-9CB5-B00C5100182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Picture 1.png"/>
          <p:cNvPicPr/>
          <p:nvPr/>
        </p:nvPicPr>
        <p:blipFill>
          <a:blip r:embed="rId1"/>
          <a:stretch/>
        </p:blipFill>
        <p:spPr>
          <a:xfrm>
            <a:off x="1447920" y="4114800"/>
            <a:ext cx="7048440" cy="144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D0A9-5279-4D8C-B881-928B03077AD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Picture 1.png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6064-B727-4CD3-BB36-40B8D1DE63A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Picture 3.png"/>
          <p:cNvPicPr/>
          <p:nvPr/>
        </p:nvPicPr>
        <p:blipFill>
          <a:blip r:embed="rId1"/>
          <a:stretch/>
        </p:blipFill>
        <p:spPr>
          <a:xfrm>
            <a:off x="0" y="1879560"/>
            <a:ext cx="9144000" cy="30988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"/>
          <p:cNvSpPr/>
          <p:nvPr/>
        </p:nvSpPr>
        <p:spPr>
          <a:xfrm>
            <a:off x="3352680" y="3657600"/>
            <a:ext cx="5639040" cy="304920"/>
          </a:xfrm>
          <a:prstGeom prst="rect">
            <a:avLst/>
          </a:prstGeom>
          <a:solidFill>
            <a:srgbClr val="ffff00">
              <a:alpha val="19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5783-0F54-4BA1-A534-FCF31F64602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Picture 4.png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29181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5"/>
          <p:cNvSpPr/>
          <p:nvPr/>
        </p:nvSpPr>
        <p:spPr>
          <a:xfrm>
            <a:off x="6781680" y="2514600"/>
            <a:ext cx="2362320" cy="38088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1828800" y="2895480"/>
            <a:ext cx="1981080" cy="22860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5410080" y="3429000"/>
            <a:ext cx="3124440" cy="30492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905120" y="3962520"/>
            <a:ext cx="220968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6934320" y="3733920"/>
            <a:ext cx="220968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6C19-8D20-4630-9EA6-2BEFF2C67E5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Picture 5.pn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8AF0-6F00-4E97-B148-621B7C3F7A4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Picture 5.png"/>
          <p:cNvPicPr/>
          <p:nvPr/>
        </p:nvPicPr>
        <p:blipFill>
          <a:blip r:embed="rId1"/>
          <a:stretch/>
        </p:blipFill>
        <p:spPr>
          <a:xfrm>
            <a:off x="0" y="1255680"/>
            <a:ext cx="9144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f this were the goal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60BE-CAE0-4715-9115-A00FA9FB60B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Picture 1.png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316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3D92-8859-45E3-8129-26B203A2CF5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Picture 3.png"/>
          <p:cNvPicPr/>
          <p:nvPr/>
        </p:nvPicPr>
        <p:blipFill>
          <a:blip r:embed="rId1"/>
          <a:stretch/>
        </p:blipFill>
        <p:spPr>
          <a:xfrm>
            <a:off x="0" y="5052960"/>
            <a:ext cx="9144000" cy="180504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6"/>
          <p:cNvSpPr/>
          <p:nvPr/>
        </p:nvSpPr>
        <p:spPr>
          <a:xfrm>
            <a:off x="0" y="5105520"/>
            <a:ext cx="9144000" cy="1447560"/>
          </a:xfrm>
          <a:prstGeom prst="rect">
            <a:avLst/>
          </a:prstGeom>
          <a:noFill/>
          <a:ln w="38160">
            <a:solidFill>
              <a:srgbClr val="262626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7" descr="Picture 1.png"/>
          <p:cNvPicPr/>
          <p:nvPr/>
        </p:nvPicPr>
        <p:blipFill>
          <a:blip r:embed="rId2"/>
          <a:stretch/>
        </p:blipFill>
        <p:spPr>
          <a:xfrm>
            <a:off x="0" y="1847880"/>
            <a:ext cx="9144000" cy="316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914400" y="990720"/>
            <a:ext cx="7238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minds-on might lead to students being able to respon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066680" y="3200400"/>
            <a:ext cx="7417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kes a pattern linea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BA8F-57AE-4C51-A69E-347481CAEA6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Here are sever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following stated goals were taken from a series of lessons on linear relations in a grade 9 tex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B880-76EB-43DB-B48E-14A4D0B33B8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1066680" y="990720"/>
            <a:ext cx="7417080" cy="71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 a relation using a table of values, a graph or a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direct and partial vari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properties of linear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CEAF-780B-4170-8A50-F6A5A4021C8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3"/>
          <p:cNvSpPr/>
          <p:nvPr/>
        </p:nvSpPr>
        <p:spPr>
          <a:xfrm>
            <a:off x="1066680" y="99072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 a linear relation in a differen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ognize whether a relation is linear or non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38BA-78AF-4C29-AB3F-A53BD2CB9A0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’m hoping that you will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066680" y="251460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th a partner, choose 1 or 2 of these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cus them to relate more explicitly to one or more of the big idea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0C9A-9A6A-4177-BCDF-B8627B3F286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nsolidat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143000" y="2286000"/>
            <a:ext cx="7416720" cy="78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talked earlier about how consolidating questions should tie to lesson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y should tell you if your goal was achiev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D397-A711-4FD6-B6B6-E7D5124CD8F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E3DC-FE4A-4CBD-A736-678A9DE5E2B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Picture 1.png"/>
          <p:cNvPicPr/>
          <p:nvPr/>
        </p:nvPicPr>
        <p:blipFill>
          <a:blip r:embed="rId1"/>
          <a:stretch/>
        </p:blipFill>
        <p:spPr>
          <a:xfrm>
            <a:off x="0" y="1860480"/>
            <a:ext cx="9144000" cy="313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21B1-EE8B-4C0F-83F4-82CEC83D0A2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Picture 2.png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39212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6"/>
          <p:cNvSpPr/>
          <p:nvPr/>
        </p:nvSpPr>
        <p:spPr>
          <a:xfrm>
            <a:off x="0" y="5029200"/>
            <a:ext cx="9144000" cy="1143000"/>
          </a:xfrm>
          <a:prstGeom prst="rect">
            <a:avLst/>
          </a:prstGeom>
          <a:noFill/>
          <a:ln w="28440">
            <a:solidFill>
              <a:srgbClr val="262626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Picture 1.png"/>
          <p:cNvPicPr/>
          <p:nvPr/>
        </p:nvPicPr>
        <p:blipFill>
          <a:blip r:embed="rId2"/>
          <a:stretch/>
        </p:blipFill>
        <p:spPr>
          <a:xfrm>
            <a:off x="0" y="2117880"/>
            <a:ext cx="9144000" cy="262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F477-9E41-40A9-959F-1F40548AAD3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Picture 1.png"/>
          <p:cNvPicPr/>
          <p:nvPr/>
        </p:nvPicPr>
        <p:blipFill>
          <a:blip r:embed="rId1"/>
          <a:stretch/>
        </p:blipFill>
        <p:spPr>
          <a:xfrm>
            <a:off x="0" y="2117880"/>
            <a:ext cx="9144000" cy="262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4C5A-9EE8-4378-8403-CFC1BE3B701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Picture 2.png"/>
          <p:cNvPicPr/>
          <p:nvPr/>
        </p:nvPicPr>
        <p:blipFill>
          <a:blip r:embed="rId1"/>
          <a:stretch/>
        </p:blipFill>
        <p:spPr>
          <a:xfrm>
            <a:off x="152280" y="4952880"/>
            <a:ext cx="8991720" cy="110988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6"/>
          <p:cNvSpPr/>
          <p:nvPr/>
        </p:nvSpPr>
        <p:spPr>
          <a:xfrm>
            <a:off x="152280" y="4952880"/>
            <a:ext cx="8610840" cy="1067040"/>
          </a:xfrm>
          <a:prstGeom prst="rect">
            <a:avLst/>
          </a:prstGeom>
          <a:noFill/>
          <a:ln w="38160">
            <a:solidFill>
              <a:srgbClr val="262626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7" descr="Picture 1.png"/>
          <p:cNvPicPr/>
          <p:nvPr/>
        </p:nvPicPr>
        <p:blipFill>
          <a:blip r:embed="rId2"/>
          <a:stretch/>
        </p:blipFill>
        <p:spPr>
          <a:xfrm>
            <a:off x="0" y="2117880"/>
            <a:ext cx="9144000" cy="262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066680" y="182880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a lesson in the resource you brough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with a partner to restate the goal to focus more on a big id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91A5-0E9D-461F-A674-7F9528A9E86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066680" y="1752480"/>
            <a:ext cx="7417080" cy="74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akes sense that there are a lot of linear patterns that start with the same term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ext matters in deciding how fast a pattern grows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C6B8-22B1-46A5-8826-F06D3C1D169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066680" y="1828800"/>
            <a:ext cx="74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e consolidating questions to match your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3D96-230D-4AA0-8D27-7ABBA42DC31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2438280"/>
            <a:ext cx="74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the PPQT  to record all of your thinking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F089-C8F4-4728-A373-4C8B790696D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066680" y="23623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lk over to someone you’ve not talked to befo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870C-1F87-47F3-80A7-4093713FCE4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066680" y="236232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one idea that came up that reinforces what you already do when creating lesson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3363-6C92-47C8-BEE4-EEC30B7DD00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143000" y="1905120"/>
            <a:ext cx="74167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fer one idea that came up that might change how you create lesson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C8CC-0863-45D1-B777-41AC57FA0D2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ar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9320" y="19051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ndy Charles: A Big Idea is a statement of an idea that is central to the learning of mathematic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84E9-5B1E-4238-A0C7-96EAC41DB7F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2:28:27Z</dcterms:created>
  <dc:creator>PSteele</dc:creator>
  <dc:description/>
  <dc:language>en-US</dc:language>
  <cp:lastModifiedBy>Marian Small</cp:lastModifiedBy>
  <dcterms:modified xsi:type="dcterms:W3CDTF">2009-09-28T13:00:04Z</dcterms:modified>
  <cp:revision>273</cp:revision>
  <dc:subject/>
  <dc:title>Slide 1</dc:title>
</cp:coreProperties>
</file>